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png" ContentType="image/png"/>
  <Override PartName="/ppt/media/image21.png" ContentType="image/png"/>
  <Override PartName="/ppt/media/image13.jpeg" ContentType="image/jpeg"/>
  <Override PartName="/ppt/media/image23.png" ContentType="image/png"/>
  <Override PartName="/ppt/media/image5.jpeg" ContentType="image/jpe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10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3F1E-A4B3-4684-A1D8-FC609ABC5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EB2E-4F7F-48D8-821C-551FC29A5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24DA-D52B-40E7-A9F1-0D5E56DB1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9BF2-4D70-43B8-B3E3-A319513CF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D156-B5BD-4C14-ACEE-CD569561C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34DC-E682-4AB5-8409-EF575DBCA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FAA5-DF22-4228-8213-DD7DECD4C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0163-A454-4608-9AC2-11011FEC9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67FF-686D-402D-AECD-E7F99F44C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59CC-C63D-4443-A30C-B5385008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F686-9D28-48B1-AD10-37F6DA7F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51F8-04B3-44FE-B383-DCEF2EC2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44DB17-993A-4E2A-AC7B-1570B8FD33B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3"/>
          <a:stretch/>
        </p:blipFill>
        <p:spPr>
          <a:xfrm>
            <a:off x="8675640" y="-9360"/>
            <a:ext cx="442800" cy="447480"/>
          </a:xfrm>
          <a:prstGeom prst="rect">
            <a:avLst/>
          </a:prstGeom>
          <a:ln w="0">
            <a:noFill/>
          </a:ln>
        </p:spPr>
      </p:pic>
      <p:sp>
        <p:nvSpPr>
          <p:cNvPr id="6" name="Text Box 3"/>
          <p:cNvSpPr/>
          <p:nvPr/>
        </p:nvSpPr>
        <p:spPr>
          <a:xfrm>
            <a:off x="-36000" y="6599160"/>
            <a:ext cx="5997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Ephraim Ferreira Medeiros – Curso GRATUITO – BASES DA MTC www.acupunturabrasil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1143000" y="457200"/>
            <a:ext cx="6172200" cy="50292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2"/>
          <p:cNvSpPr/>
          <p:nvPr/>
        </p:nvSpPr>
        <p:spPr>
          <a:xfrm>
            <a:off x="2743200" y="4572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600" spc="-1" strike="noStrike">
                <a:solidFill>
                  <a:srgbClr val="000080"/>
                </a:solidFill>
                <a:latin typeface="Arno Pro"/>
              </a:rPr>
              <a:t>Desde 199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2"/>
          <a:stretch/>
        </p:blipFill>
        <p:spPr>
          <a:xfrm>
            <a:off x="324000" y="692280"/>
            <a:ext cx="1512720" cy="14824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2"/>
          <p:cNvSpPr/>
          <p:nvPr/>
        </p:nvSpPr>
        <p:spPr>
          <a:xfrm>
            <a:off x="2340000" y="1125360"/>
            <a:ext cx="43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Yin e o Ya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-87120" y="2492280"/>
            <a:ext cx="939492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38400"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eoria Yin-Yang abrange três ite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Nos estados de tranqüilidade, o Yin e o Yang estarão em harmonia; nos d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itação, o Yin e o Yang estarão em desequilíbrio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Em nenhuma substância observar-se-á desenvolvimento e endurecimento s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uver predomínio de Yin ou Yang isoladamente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 Quando o Yin está em excesso, o Yang estará em depleção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o contrário, estando Yin fraco, o Yang encontrar-se-á for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3"/>
          <a:stretch/>
        </p:blipFill>
        <p:spPr>
          <a:xfrm>
            <a:off x="7524720" y="260280"/>
            <a:ext cx="133812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"/>
          <p:cNvSpPr/>
          <p:nvPr/>
        </p:nvSpPr>
        <p:spPr>
          <a:xfrm>
            <a:off x="2627280" y="1916280"/>
            <a:ext cx="43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Quatro Aspectos do Relacionamento Yin-Ya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755640" y="2924280"/>
            <a:ext cx="799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38400" algn="ctr"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 Oposiç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 Interdependên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- Consumo Mútu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- Inter-relacionam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2771640" y="549360"/>
            <a:ext cx="396108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"/>
          <p:cNvPicPr/>
          <p:nvPr/>
        </p:nvPicPr>
        <p:blipFill>
          <a:blip r:embed="rId2"/>
          <a:stretch/>
        </p:blipFill>
        <p:spPr>
          <a:xfrm>
            <a:off x="3780000" y="0"/>
            <a:ext cx="1198440" cy="2808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3"/>
          <a:stretch/>
        </p:blipFill>
        <p:spPr>
          <a:xfrm>
            <a:off x="5796000" y="0"/>
            <a:ext cx="3348000" cy="4429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4"/>
          <a:stretch/>
        </p:blipFill>
        <p:spPr>
          <a:xfrm>
            <a:off x="0" y="0"/>
            <a:ext cx="3048120" cy="43657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5"/>
          <a:stretch/>
        </p:blipFill>
        <p:spPr>
          <a:xfrm>
            <a:off x="2556000" y="2857680"/>
            <a:ext cx="3809880" cy="40003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0" y="4365720"/>
            <a:ext cx="219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Huang D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1800"/>
            </a:b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Nei Jing </a:t>
            </a:r>
            <a:br>
              <a:rPr sz="1800"/>
            </a:b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2697-2597</a:t>
            </a:r>
            <a:br>
              <a:rPr sz="1800"/>
            </a:b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5797440" y="4437000"/>
            <a:ext cx="275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Li Zhi Zhen</a:t>
            </a:r>
            <a:br>
              <a:rPr sz="1800"/>
            </a:br>
            <a:br>
              <a:rPr sz="1800"/>
            </a:b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Bencao Gang Mu; 1596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Maixu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1564 A.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 Movimen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2556000" y="1341360"/>
            <a:ext cx="403200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 Movimen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6300720" y="0"/>
            <a:ext cx="2521080" cy="252108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3"/>
          <p:cNvSpPr/>
          <p:nvPr/>
        </p:nvSpPr>
        <p:spPr>
          <a:xfrm>
            <a:off x="395280" y="2411280"/>
            <a:ext cx="82105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 cinco elementos são, na realidade, os cinco movimentos básico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 constituem dinâmica da natureza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iste entre eles uma interdependência e uma inter-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trição que determinam seus estados de constante movimento e mutaçã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eoria dos Cinco Elementos ocupa um lugar importante na medicina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inesa, porque todos os fenômenos dos tecidos e órgãos, da fisiologia e da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tologia do corpo humano, estão classificados e são interpretados pelas inter-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ções desses elemento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sa teoria é usada como guia na prática médic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 Movimen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2"/>
          <a:stretch/>
        </p:blipFill>
        <p:spPr>
          <a:xfrm>
            <a:off x="6767640" y="0"/>
            <a:ext cx="2376360" cy="237636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3"/>
          <p:cNvSpPr/>
          <p:nvPr/>
        </p:nvSpPr>
        <p:spPr>
          <a:xfrm>
            <a:off x="145800" y="1468440"/>
            <a:ext cx="588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lassificação dos cinco elementos na naturez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50920" y="2349360"/>
          <a:ext cx="8354880" cy="3832200"/>
        </p:xfrm>
        <a:graphic>
          <a:graphicData uri="http://schemas.openxmlformats.org/drawingml/2006/table">
            <a:tbl>
              <a:tblPr/>
              <a:tblGrid>
                <a:gridCol w="1657080"/>
                <a:gridCol w="1224000"/>
                <a:gridCol w="1274760"/>
                <a:gridCol w="1397160"/>
                <a:gridCol w="1384200"/>
                <a:gridCol w="1417680"/>
              </a:tblGrid>
              <a:tr h="1044720">
                <a:tc>
                  <a:txBody>
                    <a:bodyPr lIns="90000" rIns="90000" tIns="16488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inco</a:t>
                      </a:r>
                      <a:br>
                        <a:rPr sz="2400"/>
                      </a:b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ement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508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reçã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508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açã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508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tor climátic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508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508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ost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16488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deir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528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528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imave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5280" bIns="46800" anchor="t">
                      <a:noAutofit/>
                    </a:bodyPr>
                    <a:p>
                      <a:pPr algn="r"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n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528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rd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528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zed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16488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g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528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528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rã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5280" bIns="46800" anchor="t">
                      <a:noAutofit/>
                    </a:bodyPr>
                    <a:p>
                      <a:pPr algn="r"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lo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528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rmelh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528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marg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90000" rIns="90000" tIns="164880" bIns="46800" anchor="ctr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rr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5280" bIns="46800" anchor="ctr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ntr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5280" bIns="46800" anchor="ctr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ício e fim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 verã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5280" bIns="46800" anchor="ctr">
                      <a:noAutofit/>
                    </a:bodyPr>
                    <a:p>
                      <a:pPr algn="r"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Úmid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5280" bIns="46800" anchor="ctr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marel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5280" bIns="46800" anchor="ctr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16488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528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es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528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uto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5280" bIns="46800" anchor="t">
                      <a:noAutofit/>
                    </a:bodyPr>
                    <a:p>
                      <a:pPr algn="r"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c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528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anc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528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imentad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16488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Águ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528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r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528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ver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5280" bIns="46800" anchor="t">
                      <a:noAutofit/>
                    </a:bodyPr>
                    <a:p>
                      <a:pPr algn="r"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528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528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lgad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 Movimen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7740720" y="0"/>
            <a:ext cx="1165320" cy="11653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3"/>
          <p:cNvSpPr/>
          <p:nvPr/>
        </p:nvSpPr>
        <p:spPr>
          <a:xfrm>
            <a:off x="147960" y="1468440"/>
            <a:ext cx="628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lassificação dos cinco elementos no ser huma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0" y="1971720"/>
          <a:ext cx="8821800" cy="4481640"/>
        </p:xfrm>
        <a:graphic>
          <a:graphicData uri="http://schemas.openxmlformats.org/drawingml/2006/table">
            <a:tbl>
              <a:tblPr/>
              <a:tblGrid>
                <a:gridCol w="1403280"/>
                <a:gridCol w="1152720"/>
                <a:gridCol w="1233360"/>
                <a:gridCol w="1243080"/>
                <a:gridCol w="1230120"/>
                <a:gridCol w="1490760"/>
                <a:gridCol w="1068480"/>
              </a:tblGrid>
              <a:tr h="1251000">
                <a:tc>
                  <a:txBody>
                    <a:bodyPr lIns="90000" rIns="90000" tIns="14508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inco</a:t>
                      </a:r>
                      <a:br>
                        <a:rPr sz="2000"/>
                      </a:b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ement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508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Órgã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508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íscer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508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Órgã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508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cid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508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moçã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508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lIns="90000" rIns="90000" tIns="145080" bIns="46800" anchor="ctr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deir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5280" bIns="46800" anchor="ctr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ígad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5280" bIns="46800" anchor="ctr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sícula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lia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5280" bIns="46800" anchor="ctr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lh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5280" bIns="46800" anchor="ctr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ndã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5280" bIns="46800" anchor="ctr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ng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5280" bIns="46800" anchor="ctr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i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90000" rIns="90000" tIns="145080" bIns="46800" anchor="b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g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5280" bIns="46800" anchor="b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raçã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5280" bIns="46800" anchor="b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stino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lgad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5280" bIns="46800" anchor="b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íngu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5280" bIns="46800" anchor="b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scula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5280" bIns="46800" anchor="b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egr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5280" bIns="46800" anchor="b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is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lIns="90000" rIns="90000" tIns="145080" bIns="46800" anchor="ctr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rr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5280" bIns="46800" anchor="ctr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ço-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âncre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5280" bIns="46800" anchor="ctr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ômag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5280" bIns="46800" anchor="ctr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o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5280" bIns="46800" anchor="ctr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úscul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5280" bIns="46800" anchor="ctr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samen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5280" bIns="46800" anchor="ctr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n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90000" rIns="90000" tIns="145080" bIns="46800" anchor="ctr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5280" bIns="46800" anchor="ctr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ulmã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5280" bIns="46800" anchor="ctr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stino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oss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5280" bIns="46800" anchor="ctr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riz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5280" bIns="46800" anchor="ctr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le e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êl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5280" bIns="46800" anchor="ctr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ocupaçã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5280" bIns="46800" anchor="ctr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or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14508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Águ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528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i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528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xig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528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uvid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528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ss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528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d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528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mid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"/>
          <p:cNvPicPr/>
          <p:nvPr/>
        </p:nvPicPr>
        <p:blipFill>
          <a:blip r:embed="rId2"/>
          <a:stretch/>
        </p:blipFill>
        <p:spPr>
          <a:xfrm>
            <a:off x="1763640" y="1125360"/>
            <a:ext cx="2714760" cy="28386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"/>
          <p:cNvSpPr/>
          <p:nvPr/>
        </p:nvSpPr>
        <p:spPr>
          <a:xfrm>
            <a:off x="2124000" y="4365720"/>
            <a:ext cx="192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finição de Q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6840" y="907560"/>
            <a:ext cx="469116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Qi é uma energia que se manifesta simultaneamente sobre os níveis físico e espiritual, assim como, é um estado constante de fluxo em estados variáveis de agregaçã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2"/>
          <a:stretch/>
        </p:blipFill>
        <p:spPr>
          <a:xfrm>
            <a:off x="5867280" y="765000"/>
            <a:ext cx="2714760" cy="283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195640" y="3618000"/>
            <a:ext cx="46908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sto indica claramente que o Qi pode ser tão rarefeito e imaterial como o vapor, e tão denso e material como o arroz, modificando-se em sua form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2"/>
          <a:stretch/>
        </p:blipFill>
        <p:spPr>
          <a:xfrm>
            <a:off x="3276720" y="620640"/>
            <a:ext cx="2714400" cy="28386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2989440" y="27082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o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5222880" y="12682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p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1"/>
          <p:cNvSpPr/>
          <p:nvPr/>
        </p:nvSpPr>
        <p:spPr>
          <a:xfrm>
            <a:off x="407880" y="2403360"/>
            <a:ext cx="8186760" cy="1470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O </a:t>
            </a:r>
            <a:r>
              <a:rPr b="1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Curso </a:t>
            </a:r>
            <a:r>
              <a:rPr b="1" lang="pt-BR" sz="2500" spc="-1" strike="noStrike">
                <a:solidFill>
                  <a:srgbClr val="000000"/>
                </a:solidFill>
                <a:latin typeface="Arial"/>
              </a:rPr>
              <a:t>Bases da Medicina Tradicional Chinesa </a:t>
            </a:r>
            <a:r>
              <a:rPr b="0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é um curso teórico e </a:t>
            </a:r>
            <a:r>
              <a:rPr b="1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inteiramente gratuito </a:t>
            </a:r>
            <a:r>
              <a:rPr b="0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para assistir e baixar o material.</a:t>
            </a:r>
            <a:br>
              <a:rPr sz="2500"/>
            </a:b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Caso você deseje receber um </a:t>
            </a:r>
            <a:r>
              <a:rPr b="1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certificado</a:t>
            </a:r>
            <a:r>
              <a:rPr b="0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 após completar esse curso é preciso </a:t>
            </a:r>
            <a:r>
              <a:rPr b="1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pagar uma taxa </a:t>
            </a:r>
            <a:r>
              <a:rPr b="0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que inclui uma </a:t>
            </a:r>
            <a:r>
              <a:rPr b="1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avaliação</a:t>
            </a:r>
            <a:r>
              <a:rPr b="0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 (prova de multipla escolha e talvez outras atividades) e a </a:t>
            </a:r>
            <a:r>
              <a:rPr b="1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emissão de certificado </a:t>
            </a:r>
            <a:r>
              <a:rPr b="0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que só é feita caso você consiga aproveitamento acima de 70% na avaliação.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Caso não alcance esse aproveitamento é enviada mais uma prova e observações para estudo de reforço. </a:t>
            </a:r>
            <a:br>
              <a:rPr sz="2500"/>
            </a:b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Para informação sobre atualizada sobre o custo da Certificação (certificado de CURSO LIVRE com 25 horas) visite </a:t>
            </a:r>
            <a:r>
              <a:rPr b="1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www.acupunturabrasil.org</a:t>
            </a:r>
            <a:r>
              <a:rPr b="0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 ou entre em contato direto com o professor Ephraim F. Medeiros via telegram </a:t>
            </a:r>
            <a:r>
              <a:rPr b="1" lang="en-US" sz="2500" spc="-1" strike="noStrike">
                <a:solidFill>
                  <a:srgbClr val="000000"/>
                </a:solidFill>
                <a:latin typeface="Roboto Condensed"/>
                <a:ea typeface="Roboto Condensed"/>
              </a:rPr>
              <a:t>@Ephraimmedeiro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3059280" y="549360"/>
            <a:ext cx="27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s Funções do Q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2"/>
          <a:stretch/>
        </p:blipFill>
        <p:spPr>
          <a:xfrm>
            <a:off x="3995640" y="5229360"/>
            <a:ext cx="963720" cy="100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539640" y="1341360"/>
            <a:ext cx="426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unções e movimento do Q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ransformação, transporte, manutenção, ascendência, proteção e aqueciment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ais de Energ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finiçã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Qi percorre diferentes canais de energia para alcançar todas as partes do corpo, promovendo a vitalid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Bloqueios nesses canais podem gerar desequilíbrios que suscitam as doenç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2"/>
          <a:stretch/>
        </p:blipFill>
        <p:spPr>
          <a:xfrm>
            <a:off x="5651640" y="1628640"/>
            <a:ext cx="2867040" cy="44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ais de Energ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05952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pos de Canais de Energ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cip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i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dino-Muscu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aordiná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da um deles percorre caminhos característicos e com funções e fisiopatologia próprio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os eles se relacionam mutu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5508720" y="1628640"/>
            <a:ext cx="1885680" cy="29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n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dades multifuncionais capazes de receber diversos estímulos e transmiti-los para o organismo promovendo regulação das suas funçõ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mbém são pontos preferenciais de entrada e saída das chamadas energias pervers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2"/>
          <a:stretch/>
        </p:blipFill>
        <p:spPr>
          <a:xfrm>
            <a:off x="5234040" y="1986120"/>
            <a:ext cx="2867040" cy="37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n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7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em cerca de 365 pontos nos meridianos principais e milhares de pontos fora dos meridian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2"/>
          <a:stretch/>
        </p:blipFill>
        <p:spPr>
          <a:xfrm>
            <a:off x="5364000" y="1197000"/>
            <a:ext cx="33624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ito de Doenç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Enfraquecimento do organismo propicia o desequilíbrio que resultará em uma manifestação clínica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 a MTC esse enfraquecimento já significa a doença e pode ter várias caus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ias Climát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equilíbrios Emocion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mentação Inadequ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ssos Físicos e sexu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tores contagiosos e constitucion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ação inadequ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2"/>
          <a:stretch/>
        </p:blipFill>
        <p:spPr>
          <a:xfrm>
            <a:off x="5940360" y="1933560"/>
            <a:ext cx="2746440" cy="29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ito de Doenç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0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4440" indent="-33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doença gera quadros sindrômicos também chamados de padrões de energia.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mplos : Deficiência de Qi, Deficiência de Yin, Deficiência de Yang, Fogo no Estômago, Sequidão no Pulmão, etc.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ão se trata uma doença em MTC e sim procura-se tratar o padrão de desarmonia que a cau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2"/>
          <a:stretch/>
        </p:blipFill>
        <p:spPr>
          <a:xfrm>
            <a:off x="5508720" y="1933560"/>
            <a:ext cx="3178080" cy="303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ito de C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4000" y="2781360"/>
            <a:ext cx="576072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ve-se fortalecer o Qi correto e expulsar o patogênico e ainda atuar desbloqueando e harmonizando os meridianos, órgãos e vísceras afetados e portanto suas funçõ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2"/>
          <a:stretch/>
        </p:blipFill>
        <p:spPr>
          <a:xfrm>
            <a:off x="6372360" y="2133720"/>
            <a:ext cx="2536560" cy="33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ul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9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ulhas Filiformes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ulhas de espessura milimétrica e diferentes comprimentos dependendo da área a ser estimulada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almente durante 15-30 minutos as agulhas ficam reti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2"/>
          <a:stretch/>
        </p:blipFill>
        <p:spPr>
          <a:xfrm>
            <a:off x="6012000" y="1628640"/>
            <a:ext cx="223344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écnicas auxili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ox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ento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2"/>
          <a:stretch/>
        </p:blipFill>
        <p:spPr>
          <a:xfrm>
            <a:off x="5300640" y="1600200"/>
            <a:ext cx="2732040" cy="2185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"/>
          <p:cNvPicPr/>
          <p:nvPr/>
        </p:nvPicPr>
        <p:blipFill>
          <a:blip r:embed="rId3"/>
          <a:stretch/>
        </p:blipFill>
        <p:spPr>
          <a:xfrm>
            <a:off x="5292720" y="3938760"/>
            <a:ext cx="3166920" cy="2519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"/>
          <p:cNvPicPr/>
          <p:nvPr/>
        </p:nvPicPr>
        <p:blipFill>
          <a:blip r:embed="rId4"/>
          <a:stretch/>
        </p:blipFill>
        <p:spPr>
          <a:xfrm>
            <a:off x="250920" y="3357720"/>
            <a:ext cx="4800600" cy="31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upuntura Tradicional Chine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594972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r. Ephraim Ferreira Medei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2340000" y="1844640"/>
            <a:ext cx="4467240" cy="40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3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Auriculoterap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2"/>
          <a:stretch/>
        </p:blipFill>
        <p:spPr>
          <a:xfrm>
            <a:off x="1476360" y="836640"/>
            <a:ext cx="5472000" cy="58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ras formas de estimul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letroacupun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La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ENS e TENS modific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Fitoestimul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Óleos Essenci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edo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tc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tamen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3200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OMS reconhece a Acupuntura desde 1979 e a recomenda para pelo menos 40 enfermida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2"/>
          <a:stretch/>
        </p:blipFill>
        <p:spPr>
          <a:xfrm>
            <a:off x="5580000" y="1484280"/>
            <a:ext cx="1629000" cy="333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m pode fazer acupuntura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907640" y="1557000"/>
            <a:ext cx="648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fissionais de saúde: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isioterapeutas, Biomédicos, Médicos, Enfermeiros, Fonoaudiólogos, Farmacêuticos, Educadores físicos, Psicólog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fissionais de nível técn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fissionais formados em cursos liv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601"/>
              </a:spcBef>
              <a:buNone/>
              <a:tabLst>
                <a:tab algn="l" pos="0"/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2"/>
          <a:stretch/>
        </p:blipFill>
        <p:spPr>
          <a:xfrm>
            <a:off x="0" y="3648240"/>
            <a:ext cx="1971720" cy="320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cina Tradicional Chine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4546440" cy="32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cupun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armacoterap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ietoterap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assag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rcícios Físicos 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(Taijiquan, Qigo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5219640" y="1628640"/>
            <a:ext cx="2778120" cy="377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upuntur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330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acupuntura é uma técnica de tratamento que consiste no estímulo de pontos determinados da superfície da pele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a desbloquear e Harmonizar o Fluxo de Energia e Sangue que circulam comandados pelos canais de energia (meridiano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5076720" y="1700280"/>
            <a:ext cx="3749760" cy="268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upuntur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584352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dem ser utilizados neste processo agulhas, ventosas, massagens, e até o calor proveniente da queima da moxa, preparada à partir da erva artemísia (moxabustão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6659640" y="1484280"/>
            <a:ext cx="2085840" cy="377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556000" y="404640"/>
            <a:ext cx="43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Yin e o Ya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3492360" y="981000"/>
            <a:ext cx="2665440" cy="2611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3"/>
          <a:stretch/>
        </p:blipFill>
        <p:spPr>
          <a:xfrm>
            <a:off x="4140360" y="3933720"/>
            <a:ext cx="133812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2"/>
          <a:stretch/>
        </p:blipFill>
        <p:spPr>
          <a:xfrm>
            <a:off x="324000" y="692280"/>
            <a:ext cx="1512720" cy="14824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"/>
          <p:cNvSpPr/>
          <p:nvPr/>
        </p:nvSpPr>
        <p:spPr>
          <a:xfrm>
            <a:off x="395280" y="2781360"/>
            <a:ext cx="84265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s fenômenos da natureza foram classificados em dois pólos oposto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 Yin (negativo) e o Yang (positivo)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queles que apresentam como características força, calor, claridade, superfície, grandeza, dureza, peso etc. pertencem ao Yang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o contrário, os que apresentam características opostas às mencionadas, pertencem ao Yi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2340000" y="1125360"/>
            <a:ext cx="43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Yin e o Ya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2"/>
          <a:stretch/>
        </p:blipFill>
        <p:spPr>
          <a:xfrm>
            <a:off x="324000" y="692280"/>
            <a:ext cx="1512720" cy="14824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2"/>
          <p:cNvSpPr/>
          <p:nvPr/>
        </p:nvSpPr>
        <p:spPr>
          <a:xfrm>
            <a:off x="2340000" y="1125360"/>
            <a:ext cx="43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Yin e o Ya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55640" y="2349360"/>
          <a:ext cx="8067600" cy="4248360"/>
        </p:xfrm>
        <a:graphic>
          <a:graphicData uri="http://schemas.openxmlformats.org/drawingml/2006/table">
            <a:tbl>
              <a:tblPr/>
              <a:tblGrid>
                <a:gridCol w="1130400"/>
                <a:gridCol w="2111400"/>
                <a:gridCol w="2489040"/>
                <a:gridCol w="2336760"/>
              </a:tblGrid>
              <a:tr h="88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aturez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rpo human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aracterísticas das</a:t>
                      </a:r>
                      <a:br>
                        <a:rPr sz="1400"/>
                      </a:b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enç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Yan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l, dia, céu,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omem, verão, calor,sul, nor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uperfície (externa), re-</a:t>
                      </a:r>
                      <a:br>
                        <a:rPr sz="1400"/>
                      </a:b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ião dorsal, porção su-</a:t>
                      </a:r>
                      <a:br>
                        <a:rPr sz="1400"/>
                      </a:b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adiafragmática e vís-</a:t>
                      </a:r>
                      <a:br>
                        <a:rPr sz="1400"/>
                      </a:b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eras energétic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gitada, forte, quente,</a:t>
                      </a:r>
                      <a:br>
                        <a:rPr sz="1400"/>
                      </a:b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eca,hiperfuncionante,</a:t>
                      </a:r>
                      <a:br>
                        <a:rPr sz="1400"/>
                      </a:b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gud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Yi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ua, noite, terra,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ulher, inverno,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rio, leste, oes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gião profunda (inter-</a:t>
                      </a:r>
                      <a:br>
                        <a:rPr sz="1400"/>
                      </a:b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a), região central, por-</a:t>
                      </a:r>
                      <a:br>
                        <a:rPr sz="1400"/>
                      </a:b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ção infradiafragmática,</a:t>
                      </a:r>
                      <a:br>
                        <a:rPr sz="1400"/>
                      </a:b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inco órgãos, sistema</a:t>
                      </a:r>
                      <a:br>
                        <a:rPr sz="1400"/>
                      </a:b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angüíne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alma, fraca, fria, úmida,</a:t>
                      </a:r>
                      <a:br>
                        <a:rPr sz="1400"/>
                      </a:b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ipofuncionante, crôni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5T13:03:40Z</dcterms:created>
  <dc:creator>Pessoal</dc:creator>
  <dc:description/>
  <dc:language>en-US</dc:language>
  <cp:lastModifiedBy>微软用户</cp:lastModifiedBy>
  <dcterms:modified xsi:type="dcterms:W3CDTF">2020-10-04T14:05:14Z</dcterms:modified>
  <cp:revision>40</cp:revision>
  <dc:subject/>
  <dc:title>Acupuntura Tradicional Chinesa</dc:title>
</cp:coreProperties>
</file>